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19.jpeg" ContentType="image/jpeg"/>
  <Override PartName="/ppt/media/image10.wmf" ContentType="image/x-wmf"/>
  <Override PartName="/ppt/media/image2.png" ContentType="image/png"/>
  <Override PartName="/ppt/media/image6.png" ContentType="image/png"/>
  <Override PartName="/ppt/media/image23.png" ContentType="image/png"/>
  <Override PartName="/ppt/media/image22.png" ContentType="image/png"/>
  <Override PartName="/ppt/media/image21.jpeg" ContentType="image/jpeg"/>
  <Override PartName="/ppt/media/image16.png" ContentType="image/png"/>
  <Override PartName="/ppt/media/image20.png" ContentType="image/png"/>
  <Override PartName="/ppt/media/image3.png" ContentType="image/png"/>
  <Override PartName="/ppt/media/image18.jpeg" ContentType="image/jpeg"/>
  <Override PartName="/ppt/media/image17.png" ContentType="image/png"/>
  <Override PartName="/ppt/media/image15.png" ContentType="image/png"/>
  <Override PartName="/ppt/media/image5.jpeg" ContentType="image/jpeg"/>
  <Override PartName="/ppt/media/image14.jpeg" ContentType="image/jpeg"/>
  <Override PartName="/ppt/media/image4.png" ContentType="image/png"/>
  <Override PartName="/ppt/media/image8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36ED9-FEE7-4C8C-8EF1-9D4022D963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template can be used as a starter file for presenting training materials in a group sett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Se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ght-click on a slide to add sections. Sections can help to organize your slides or facilitate collaboration between multiple autho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No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 the Notes section for delivery notes or to provide additional details for the audience. View these notes in Presentation View during your presentatio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eep in mind the font size (important for accessibility, visibility, videotaping, and online production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Coordinated color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y particular attention to the graphs, charts, and text box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sider that attendees will print in black and white or grayscale. Run a test print to make sure your colors work when printed in pure black and white and graysca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Graphics, tables, and graph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eep it simple: If possible, use consistent, non-distracting styles and colo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bel all graphs and tabl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0B6DD-4D7F-4C42-A998-17779B1D02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27EF7-AC21-41D8-A02F-D840F3F29A2B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BEA1C-E64D-4563-8474-71378DDD1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62120" y="396432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80AEB-8675-4412-B890-CEF43227C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068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E9C68-95B6-4FE2-B320-FACFCE6BC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9308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2440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6212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9308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2440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AF837-92EE-44FF-AB23-47E854DD5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762120" y="27432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97BB0-7666-49D2-B309-D06F8BEDB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90068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762120" y="396432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90068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49308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22440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76212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49308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22440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4C483-1CE3-4BF1-8F6B-3B4A68FA7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A59CA-518A-47B0-97A3-B3C12B5F4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4144E-7A71-4391-8E0F-5E821C1B4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6A4D4-EC72-4E9F-92B8-EA88172F5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617D3-5342-41B6-A363-EDA47655D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97A2E-20DC-4787-8D01-E6CF5E07B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762120" y="27432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61C1C-5E7B-488C-932E-E9D7BA36B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5B9C9-3186-4B98-84CB-BF3A1B154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90068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722E0-5E8A-4A8F-8FDE-761C265E0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C7D6B-6D50-44F3-9868-CA6C204DE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762120" y="396432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02CA1-E055-44EF-93E5-2564EBA9D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90068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835AB-2A8C-4120-A525-86CD77276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49308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22440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76212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49308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22440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8188D-FB38-4646-A7AB-51077715A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D8040A-6069-4F87-82E3-60DCDC5F9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AB4BFB-8F5D-4D3B-AFE4-16F9FDD8D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46EA29-7ABD-411F-82F1-6F843EDC3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CB472-7158-4D5C-AF49-0544241BE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640348-4946-457E-B34F-B50DDC362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54E93E-B615-427C-AA14-09AC9516E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762120" y="27432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C72A37-CC8C-4068-BB5A-1F35E6B07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29E076-2A4F-4267-B378-3B71B0BAC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90068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003C72-F35F-4799-9A71-8CB26BFFE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81D237-5C22-4310-92A2-3D20ABA36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762120" y="396432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2D81BF-9F0F-4F25-A292-67977D135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90068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7F0AC5-1F58-4951-9AFB-555D3553D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49308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22440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76212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49308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22440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98EBDF-CBE6-47AE-86FF-5D0C9E5B7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BAE97E-0E16-4325-B775-60845864D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E9A87-85A5-47D5-9D91-B42B08AAC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6FA442-0B6B-47D7-AD86-555D600B0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D97C43-3003-4AA0-837C-ED4C299DA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12EE75-2651-4395-8242-5F1AEBAE9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C93314-C883-462E-BEE1-BAFA89684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762120" y="27432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1A91A7-3CA7-467D-BB73-0A3DF3121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C06610-BBF9-432E-BC28-7B408DBB3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90068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D36341-E978-455F-9F02-DC9452FF3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75F1C9-CF61-4AE7-8E64-6892394A4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762120" y="396432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46CC5F-D792-4D81-849E-371AF5CBE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90068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16CFEC-2588-4DD6-BDF4-572E541D3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62120" y="27432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5C161-BAA6-433A-B7AB-5E1DF12F5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49308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22440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76212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49308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22440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1A2724-1CB8-48B1-9511-A153833B3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FFFD79-5D35-4AD8-9B3B-9D1415898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0FB00D-BE08-4534-8AE0-BABC6F793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37C745-EF37-4D78-BD1B-819AA6C50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93D5B7-88FD-413A-A32D-F1CFE3C3E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38E417-A3E4-49CC-8C9B-48EC5B278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762120" y="27432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7FDC1C-FAA2-497D-9BB8-6F7C37F27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BE7CF0-2590-4D6F-AE8B-8754A00D5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90068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FB4838-5999-44F7-82A2-6334CD711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E379A5-DEF2-4AA5-85D4-AA1EDF024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F05F6-FBD3-465B-93DF-86404032F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762120" y="396432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96321D-FE7E-4DBD-A2F5-146862EE0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90068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84D568-80CF-4E33-9C31-5D412FAFF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49308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22440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76212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49308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22440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EC47D8-EC2B-4A56-9B2F-47ADFF2EE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068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F0251-7432-41DB-A93D-EEDC2CCE9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00CEF-F1D2-4E61-BA61-A938ADE78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"/>
          <p:cNvPicPr/>
          <p:nvPr/>
        </p:nvPicPr>
        <p:blipFill>
          <a:blip r:embed="rId2"/>
          <a:stretch/>
        </p:blipFill>
        <p:spPr>
          <a:xfrm>
            <a:off x="42840" y="0"/>
            <a:ext cx="9101160" cy="68803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621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3526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057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1E942-6A1E-4933-A6D8-6FBE250F910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7" descr=""/>
          <p:cNvPicPr/>
          <p:nvPr/>
        </p:nvPicPr>
        <p:blipFill>
          <a:blip r:embed="rId3"/>
          <a:stretch/>
        </p:blipFill>
        <p:spPr>
          <a:xfrm>
            <a:off x="-152280" y="-109440"/>
            <a:ext cx="819000" cy="7083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8" descr=""/>
          <p:cNvPicPr/>
          <p:nvPr/>
        </p:nvPicPr>
        <p:blipFill>
          <a:blip r:embed="rId2"/>
          <a:stretch/>
        </p:blipFill>
        <p:spPr>
          <a:xfrm>
            <a:off x="42840" y="0"/>
            <a:ext cx="9101160" cy="68803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9" descr=""/>
          <p:cNvPicPr/>
          <p:nvPr/>
        </p:nvPicPr>
        <p:blipFill>
          <a:blip r:embed="rId3"/>
          <a:stretch/>
        </p:blipFill>
        <p:spPr>
          <a:xfrm>
            <a:off x="0" y="1440"/>
            <a:ext cx="372096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8" descr=""/>
          <p:cNvPicPr/>
          <p:nvPr/>
        </p:nvPicPr>
        <p:blipFill>
          <a:blip r:embed="rId2"/>
          <a:stretch/>
        </p:blipFill>
        <p:spPr>
          <a:xfrm>
            <a:off x="42840" y="0"/>
            <a:ext cx="9101160" cy="68803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9" descr=""/>
          <p:cNvPicPr/>
          <p:nvPr/>
        </p:nvPicPr>
        <p:blipFill>
          <a:blip r:embed="rId3"/>
          <a:stretch/>
        </p:blipFill>
        <p:spPr>
          <a:xfrm>
            <a:off x="-15840" y="0"/>
            <a:ext cx="9172440" cy="28195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7621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33526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67057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7B69A-A9D9-4180-A601-FE792C01609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6" descr=""/>
          <p:cNvPicPr/>
          <p:nvPr/>
        </p:nvPicPr>
        <p:blipFill>
          <a:blip r:embed="rId3"/>
          <a:stretch/>
        </p:blipFill>
        <p:spPr>
          <a:xfrm>
            <a:off x="42840" y="0"/>
            <a:ext cx="9101160" cy="68803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7" descr=""/>
          <p:cNvPicPr/>
          <p:nvPr/>
        </p:nvPicPr>
        <p:blipFill>
          <a:blip r:embed="rId4"/>
          <a:stretch/>
        </p:blipFill>
        <p:spPr>
          <a:xfrm>
            <a:off x="-152280" y="-109440"/>
            <a:ext cx="819000" cy="708336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7"/>
          </p:nvPr>
        </p:nvSpPr>
        <p:spPr>
          <a:xfrm>
            <a:off x="7621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8"/>
          </p:nvPr>
        </p:nvSpPr>
        <p:spPr>
          <a:xfrm>
            <a:off x="33526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9"/>
          </p:nvPr>
        </p:nvSpPr>
        <p:spPr>
          <a:xfrm>
            <a:off x="67057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57EAE-7B29-40C0-A270-C3768952D37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8" descr=""/>
          <p:cNvPicPr/>
          <p:nvPr/>
        </p:nvPicPr>
        <p:blipFill>
          <a:blip r:embed="rId2"/>
          <a:stretch/>
        </p:blipFill>
        <p:spPr>
          <a:xfrm>
            <a:off x="42840" y="0"/>
            <a:ext cx="9101160" cy="688032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0"/>
          </p:nvPr>
        </p:nvSpPr>
        <p:spPr>
          <a:xfrm>
            <a:off x="7621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11"/>
          </p:nvPr>
        </p:nvSpPr>
        <p:spPr>
          <a:xfrm>
            <a:off x="33526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12"/>
          </p:nvPr>
        </p:nvSpPr>
        <p:spPr>
          <a:xfrm>
            <a:off x="67057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35F46-9749-4951-9AFF-82D0C24949B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6" descr=""/>
          <p:cNvPicPr/>
          <p:nvPr/>
        </p:nvPicPr>
        <p:blipFill>
          <a:blip r:embed="rId2"/>
          <a:stretch/>
        </p:blipFill>
        <p:spPr>
          <a:xfrm>
            <a:off x="42840" y="0"/>
            <a:ext cx="9101160" cy="688032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7" descr=""/>
          <p:cNvPicPr/>
          <p:nvPr/>
        </p:nvPicPr>
        <p:blipFill>
          <a:blip r:embed="rId3"/>
          <a:stretch/>
        </p:blipFill>
        <p:spPr>
          <a:xfrm>
            <a:off x="-152280" y="-109440"/>
            <a:ext cx="819000" cy="7083360"/>
          </a:xfrm>
          <a:prstGeom prst="rect">
            <a:avLst/>
          </a:prstGeom>
          <a:ln w="0">
            <a:noFill/>
          </a:ln>
        </p:spPr>
      </p:pic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5DBD2-6F97-4780-9C78-5261B06940E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package" Target="../embeddings/oleObject1.pptx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590560" y="2285640"/>
            <a:ext cx="6180120" cy="146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Calibri"/>
              </a:rPr>
              <a:t>ROLE OF MEDICAL ANTHROPOLOGY IN PUBLIC HEALTH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3962160" y="4038480"/>
            <a:ext cx="47718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hahaduz Zaman Ph.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ewcastle University, U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Diagram 2" descr=""/>
          <p:cNvPicPr/>
          <p:nvPr/>
        </p:nvPicPr>
        <p:blipFill>
          <a:blip r:embed="rId1"/>
          <a:stretch/>
        </p:blipFill>
        <p:spPr>
          <a:xfrm>
            <a:off x="1523880" y="1395360"/>
            <a:ext cx="6096240" cy="4067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90" name="Object 2"/>
          <p:cNvGraphicFramePr/>
          <p:nvPr/>
        </p:nvGraphicFramePr>
        <p:xfrm>
          <a:off x="0" y="115920"/>
          <a:ext cx="9144000" cy="6858000"/>
        </p:xfrm>
        <a:graphic>
          <a:graphicData uri="http://schemas.openxmlformats.org/presentationml/2006/ole">
            <p:oleObj progId="PowerPoint.Show.12" r:id="rId2" spid="">
              <p:embed/>
              <p:pic>
                <p:nvPicPr>
                  <p:cNvPr id="291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1592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762120" y="2696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762120" y="1596600"/>
            <a:ext cx="807696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xplanatory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llness narra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Lay caus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ational for choosing health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mpact on lif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Parallel health secto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Diagram 1" descr=""/>
          <p:cNvPicPr/>
          <p:nvPr/>
        </p:nvPicPr>
        <p:blipFill>
          <a:blip r:embed="rId1"/>
          <a:stretch/>
        </p:blipFill>
        <p:spPr>
          <a:xfrm>
            <a:off x="1030320" y="176040"/>
            <a:ext cx="8126280" cy="646920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Diagram 1" descr=""/>
          <p:cNvPicPr/>
          <p:nvPr/>
        </p:nvPicPr>
        <p:blipFill>
          <a:blip r:embed="rId1"/>
          <a:stretch/>
        </p:blipFill>
        <p:spPr>
          <a:xfrm>
            <a:off x="-12600" y="115920"/>
            <a:ext cx="9132840" cy="6742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Diagram 1" descr=""/>
          <p:cNvPicPr/>
          <p:nvPr/>
        </p:nvPicPr>
        <p:blipFill>
          <a:blip r:embed="rId1"/>
          <a:stretch/>
        </p:blipFill>
        <p:spPr>
          <a:xfrm>
            <a:off x="-6480" y="0"/>
            <a:ext cx="921708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762120" y="2696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762120" y="1596600"/>
            <a:ext cx="807696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Health educati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762120" y="2696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0" name="Content Placeholder 3" descr=""/>
          <p:cNvPicPr/>
          <p:nvPr/>
        </p:nvPicPr>
        <p:blipFill>
          <a:blip r:embed="rId1"/>
          <a:stretch/>
        </p:blipFill>
        <p:spPr>
          <a:xfrm>
            <a:off x="1619280" y="1844640"/>
            <a:ext cx="6265800" cy="396072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11488b"/>
                </a:solidFill>
                <a:latin typeface="Calibri"/>
              </a:rPr>
              <a:t>How population developed health perception?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2" name="Content Placeholder 3" descr=""/>
          <p:cNvPicPr/>
          <p:nvPr/>
        </p:nvPicPr>
        <p:blipFill>
          <a:blip r:embed="rId1"/>
          <a:stretch/>
        </p:blipFill>
        <p:spPr>
          <a:xfrm>
            <a:off x="1042920" y="981000"/>
            <a:ext cx="8101080" cy="587700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762120" y="2696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11488b"/>
              </a:solidFill>
              <a:latin typeface="Calibri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762120" y="1596600"/>
            <a:ext cx="807696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is therefore important to consider the following question while thinking of  policies in health intervention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Diagram 1" descr=""/>
          <p:cNvPicPr/>
          <p:nvPr/>
        </p:nvPicPr>
        <p:blipFill>
          <a:blip r:embed="rId1"/>
          <a:stretch/>
        </p:blipFill>
        <p:spPr>
          <a:xfrm>
            <a:off x="0" y="-12600"/>
            <a:ext cx="9144000" cy="662148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nical  Medicine and Public Health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64" name=""/>
          <p:cNvGraphicFramePr/>
          <p:nvPr/>
        </p:nvGraphicFramePr>
        <p:xfrm>
          <a:off x="457200" y="1600200"/>
          <a:ext cx="8229600" cy="479916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163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inical Medicine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blic Health 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Problem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ividual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unity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2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oncern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ck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ck and Healthy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Purpos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r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alth Promotion and Disease contro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Diagram 1" descr=""/>
          <p:cNvPicPr/>
          <p:nvPr/>
        </p:nvPicPr>
        <p:blipFill>
          <a:blip r:embed="rId1"/>
          <a:stretch/>
        </p:blipFill>
        <p:spPr>
          <a:xfrm>
            <a:off x="1116000" y="-12600"/>
            <a:ext cx="8028000" cy="688320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762120" y="2696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762120" y="1596600"/>
            <a:ext cx="807696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Biomedicine and Medical sett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762120" y="2696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Hospital Ethnography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0" name="Content Placeholder 3" descr=""/>
          <p:cNvPicPr/>
          <p:nvPr/>
        </p:nvPicPr>
        <p:blipFill>
          <a:blip r:embed="rId1"/>
          <a:stretch/>
        </p:blipFill>
        <p:spPr>
          <a:xfrm>
            <a:off x="2340000" y="1989000"/>
            <a:ext cx="5327640" cy="360072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762120" y="2696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edicine tak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Content Placeholder 3" descr=""/>
          <p:cNvPicPr/>
          <p:nvPr/>
        </p:nvPicPr>
        <p:blipFill>
          <a:blip r:embed="rId1"/>
          <a:stretch/>
        </p:blipFill>
        <p:spPr>
          <a:xfrm>
            <a:off x="1835280" y="1773360"/>
            <a:ext cx="5832360" cy="374328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762120" y="2696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762120" y="1596600"/>
            <a:ext cx="807696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Health policy situation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762120" y="2696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Policy Triangle Frame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6" name="Content Placeholder 3" descr=""/>
          <p:cNvPicPr/>
          <p:nvPr/>
        </p:nvPicPr>
        <p:blipFill>
          <a:blip r:embed="rId1"/>
          <a:stretch/>
        </p:blipFill>
        <p:spPr>
          <a:xfrm>
            <a:off x="914400" y="1420920"/>
            <a:ext cx="7772400" cy="468144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762120" y="2696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edical history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762120" y="1596600"/>
            <a:ext cx="807696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9" name="Picture 4" descr="fluhospital2"/>
          <p:cNvPicPr/>
          <p:nvPr/>
        </p:nvPicPr>
        <p:blipFill>
          <a:blip r:embed="rId1"/>
          <a:stretch/>
        </p:blipFill>
        <p:spPr>
          <a:xfrm>
            <a:off x="762120" y="2362320"/>
            <a:ext cx="7696080" cy="388620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762120" y="2696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Disaster  ( Natural and Man Made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762120" y="1596600"/>
            <a:ext cx="807696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2" name="Picture 1" descr=""/>
          <p:cNvPicPr/>
          <p:nvPr/>
        </p:nvPicPr>
        <p:blipFill>
          <a:blip r:embed="rId1"/>
          <a:stretch/>
        </p:blipFill>
        <p:spPr>
          <a:xfrm>
            <a:off x="1116000" y="1557360"/>
            <a:ext cx="7343640" cy="460836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17440"/>
            <a:ext cx="857880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1488b"/>
                </a:solidFill>
                <a:latin typeface="Calibri"/>
              </a:rPr>
              <a:t>How Medical Anthropology contributes in public health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6840" y="1406520"/>
            <a:ext cx="3809880" cy="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720" bIns="-7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5" name="Content Placeholder 9" descr=""/>
          <p:cNvPicPr/>
          <p:nvPr/>
        </p:nvPicPr>
        <p:blipFill>
          <a:blip r:embed="rId1"/>
          <a:stretch/>
        </p:blipFill>
        <p:spPr>
          <a:xfrm>
            <a:off x="0" y="1401840"/>
            <a:ext cx="9144000" cy="546876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5" name=""/>
          <p:cNvGraphicFramePr/>
          <p:nvPr/>
        </p:nvGraphicFramePr>
        <p:xfrm>
          <a:off x="228600" y="115920"/>
          <a:ext cx="8915400" cy="6834240"/>
        </p:xfrm>
        <a:graphic>
          <a:graphicData uri="http://schemas.openxmlformats.org/drawingml/2006/table">
            <a:tbl>
              <a:tblPr/>
              <a:tblGrid>
                <a:gridCol w="2971800"/>
                <a:gridCol w="2971800"/>
                <a:gridCol w="2971800"/>
              </a:tblGrid>
              <a:tr h="1355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inical Medicine  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blic Health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89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Deals with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croscopic Pathology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pulation Pathology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71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ommunic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ient comes to the provid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vider goes to the cli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2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Philosophy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ease orien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alth orien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5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ubject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icine, Surgery. Gynecology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pidemiology, Statistics, Economics, Anthropology, Political science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Content Placeholder 3" descr=""/>
          <p:cNvPicPr/>
          <p:nvPr/>
        </p:nvPicPr>
        <p:blipFill>
          <a:blip r:embed="rId1"/>
          <a:stretch/>
        </p:blipFill>
        <p:spPr>
          <a:xfrm>
            <a:off x="0" y="-146160"/>
            <a:ext cx="9144000" cy="701676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Diagram 1" descr=""/>
          <p:cNvPicPr/>
          <p:nvPr/>
        </p:nvPicPr>
        <p:blipFill>
          <a:blip r:embed="rId1"/>
          <a:stretch/>
        </p:blipFill>
        <p:spPr>
          <a:xfrm>
            <a:off x="109440" y="176040"/>
            <a:ext cx="8858520" cy="657864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792440" y="5013000"/>
            <a:ext cx="548640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Social determinants of Health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9" name="Picture Placeholder 4" descr=""/>
          <p:cNvPicPr/>
          <p:nvPr/>
        </p:nvPicPr>
        <p:blipFill>
          <a:blip r:embed="rId1"/>
          <a:stretch/>
        </p:blipFill>
        <p:spPr>
          <a:xfrm>
            <a:off x="1187280" y="690480"/>
            <a:ext cx="6769440" cy="4106880"/>
          </a:xfrm>
          <a:prstGeom prst="rect">
            <a:avLst/>
          </a:prstGeom>
          <a:ln w="0">
            <a:noFill/>
          </a:ln>
        </p:spPr>
      </p:pic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‘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Paying attention to Causes of Causes’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762120" y="2696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What Medical Anthropologists do?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762120" y="1596600"/>
            <a:ext cx="807696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Explores peoples health seeking behaviour and parallel health sector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Contributes in developing and communicating health informatio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Tries to understand biomedicine and medical setting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Explores the social, political and economic health policy environment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Learn about medical history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Helps to find out ways to deal with disaster situation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762120" y="2696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762120" y="1596600"/>
            <a:ext cx="807696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Peoples Health seeking behaviou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11488b"/>
                </a:solidFill>
                <a:latin typeface="Comic Sans MS"/>
              </a:rPr>
              <a:t>Medical  Pluralism </a:t>
            </a:r>
            <a:r>
              <a:rPr b="0" lang="en-GB" sz="4400" spc="-1" strike="noStrike">
                <a:solidFill>
                  <a:srgbClr val="11488b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Text Box 5"/>
          <p:cNvSpPr/>
          <p:nvPr/>
        </p:nvSpPr>
        <p:spPr>
          <a:xfrm>
            <a:off x="2514600" y="1219320"/>
            <a:ext cx="4267080" cy="26845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Popular sect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Text Box 6"/>
          <p:cNvSpPr/>
          <p:nvPr/>
        </p:nvSpPr>
        <p:spPr>
          <a:xfrm>
            <a:off x="685800" y="3870360"/>
            <a:ext cx="3886200" cy="212832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  </a:t>
            </a:r>
            <a:r>
              <a:rPr b="0" lang="nl-NL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Profressional sect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Text Box 7"/>
          <p:cNvSpPr/>
          <p:nvPr/>
        </p:nvSpPr>
        <p:spPr>
          <a:xfrm>
            <a:off x="4572000" y="3429000"/>
            <a:ext cx="3505320" cy="2128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    </a:t>
            </a:r>
            <a:r>
              <a:rPr b="0" lang="nl-NL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Folk sect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Line 12"/>
          <p:cNvSpPr/>
          <p:nvPr/>
        </p:nvSpPr>
        <p:spPr>
          <a:xfrm>
            <a:off x="4267080" y="5334120"/>
            <a:ext cx="1295640" cy="761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Text Box 13"/>
          <p:cNvSpPr/>
          <p:nvPr/>
        </p:nvSpPr>
        <p:spPr>
          <a:xfrm>
            <a:off x="5410080" y="579132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Possible overlap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Line 14"/>
          <p:cNvSpPr/>
          <p:nvPr/>
        </p:nvSpPr>
        <p:spPr>
          <a:xfrm flipH="1" flipV="1">
            <a:off x="2057040" y="1523520"/>
            <a:ext cx="121932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Text Box 15"/>
          <p:cNvSpPr/>
          <p:nvPr/>
        </p:nvSpPr>
        <p:spPr>
          <a:xfrm>
            <a:off x="0" y="1371600"/>
            <a:ext cx="23623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-individu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-fami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-commun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Rectangle 16"/>
          <p:cNvSpPr/>
          <p:nvPr/>
        </p:nvSpPr>
        <p:spPr>
          <a:xfrm>
            <a:off x="3962520" y="3429000"/>
            <a:ext cx="753840" cy="2112840"/>
          </a:xfrm>
          <a:prstGeom prst="rect">
            <a:avLst/>
          </a:prstGeom>
          <a:solidFill>
            <a:srgbClr val="4f81b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Text Box 20"/>
          <p:cNvSpPr/>
          <p:nvPr/>
        </p:nvSpPr>
        <p:spPr>
          <a:xfrm>
            <a:off x="7238880" y="1523880"/>
            <a:ext cx="1676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Text Box 22"/>
          <p:cNvSpPr/>
          <p:nvPr/>
        </p:nvSpPr>
        <p:spPr>
          <a:xfrm>
            <a:off x="7238880" y="1523880"/>
            <a:ext cx="16765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Not part of official medical system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Line 25"/>
          <p:cNvSpPr/>
          <p:nvPr/>
        </p:nvSpPr>
        <p:spPr>
          <a:xfrm flipV="1">
            <a:off x="6781680" y="2924280"/>
            <a:ext cx="1067040" cy="1495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Text Box 26"/>
          <p:cNvSpPr/>
          <p:nvPr/>
        </p:nvSpPr>
        <p:spPr>
          <a:xfrm>
            <a:off x="304920" y="6324480"/>
            <a:ext cx="32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Legally sanction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Line 27"/>
          <p:cNvSpPr/>
          <p:nvPr/>
        </p:nvSpPr>
        <p:spPr>
          <a:xfrm flipH="1">
            <a:off x="1523520" y="4876920"/>
            <a:ext cx="838440" cy="1447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2T12:02:04Z</dcterms:created>
  <dc:creator/>
  <dc:description/>
  <dc:language>en-US</dc:language>
  <cp:lastModifiedBy/>
  <dcterms:modified xsi:type="dcterms:W3CDTF">2013-12-08T19:16:59Z</dcterms:modified>
  <cp:revision>1</cp:revision>
  <dc:subject/>
  <dc:title/>
</cp:coreProperties>
</file>